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4358-ECDF-42DC-803E-89F2E7D48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CB0D-546D-4B6A-B949-E5A7CB57D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BE47-FE85-4B40-885C-38AC1B56A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flickr.com/photos/agathman/5469134899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41C2-76D4-4AB5-AF8F-3B9D9450A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mun.ca/biology/scarr/Arginine_nutritional_mutants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FB29-3C24-463D-A963-B6B65791B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4BEB-B689-457A-A7FD-5458E72BB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E952-010B-4002-B585-0BABE6033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dnaftb.org/13/bio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an conclude that a disease is hereditary if there is a family history, i.e. a genetic link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BE72-D76E-4342-8968-F5CBEEA66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gfmer.ch/genetic_diseases_v2/gendis_detail_list.php?cat3=18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372E-9B1C-4F23-A8C4-AEB545473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d a book called Inborn Errors of Metaboism in 19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luded alkaptonuria, cystinuria, pentosuria, albi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B8D7-F66E-4150-ADC5-336CD157C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iki.cstl.semo.edu/agathman/Proteins%20and%20genes.ashx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FCBC-98B8-4D0C-B99D-B52A2010B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sandwalk.blogspot.com/2008/05/nobel-laureates-george-beadle-and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607B-E125-4EC4-97D1-F70D4C0B5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publications.nigms.nih.gov/thenewgenetics/livinglab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FDCE-D8DA-4B8E-8404-5370F9297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al nutrient medium contained inorganic salts, sugar, one of the B vita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C16C-5BB5-4E37-84D7-E49105E98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0320-D937-480B-AE16-D200B497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00D4-2114-4DF9-9E0C-C2E07CF2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216D-0F00-4E1C-ADC8-C13A2082E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EE26-D9B6-44FB-A070-14A337127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7010-E66C-4931-82DB-51AF1F5D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69AD-724E-47EF-8561-65E3CD9D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84EE-87BB-459C-A902-FB95E4E6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6BDE-DC2C-473C-81AB-2CB2DEDB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BD90-CD8C-44D1-8561-E6EFC21C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870A-90C8-4680-B60B-464DBB08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FB55-60C3-43C1-ACD0-6EC7C392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37ED-1605-4275-A607-D5C7143D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9718-335A-4FD6-AA08-BE142E86A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dnaftb.org/16/animation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ginine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5469134899_8a32c6785d"/>
          <p:cNvPicPr/>
          <p:nvPr/>
        </p:nvPicPr>
        <p:blipFill>
          <a:blip r:embed="rId1"/>
          <a:stretch/>
        </p:blipFill>
        <p:spPr>
          <a:xfrm>
            <a:off x="1913040" y="1981080"/>
            <a:ext cx="5316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38813_Arginine_metabolism"/>
          <p:cNvPicPr/>
          <p:nvPr/>
        </p:nvPicPr>
        <p:blipFill>
          <a:blip r:embed="rId1"/>
          <a:stretch/>
        </p:blipFill>
        <p:spPr>
          <a:xfrm>
            <a:off x="685800" y="738360"/>
            <a:ext cx="777240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Gene-One Enzy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dle &amp; Tatum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work resulted in the on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-one enzyme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accurately known a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gene-one polypept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cellent slideshow that shows the Beadle &amp; Tatum experi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ftb.org/16/animation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bald Garrod (1857-196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ish phys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d metabolic defects in newbo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d family history of certain ill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13bio"/>
          <p:cNvPicPr/>
          <p:nvPr/>
        </p:nvPicPr>
        <p:blipFill>
          <a:blip r:embed="rId1"/>
          <a:stretch/>
        </p:blipFill>
        <p:spPr>
          <a:xfrm>
            <a:off x="5222880" y="1981080"/>
            <a:ext cx="266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kaptonu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urine to turn 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mulation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kapt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u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209"/>
          <p:cNvPicPr/>
          <p:nvPr/>
        </p:nvPicPr>
        <p:blipFill>
          <a:blip r:embed="rId1"/>
          <a:stretch/>
        </p:blipFill>
        <p:spPr>
          <a:xfrm>
            <a:off x="685800" y="2624040"/>
            <a:ext cx="38098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rod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breaking down alkap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born error of metabolism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ed connection between DNA (genes) &amp;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Garrod didn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k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5469059067_04bb4c7886"/>
          <p:cNvPicPr/>
          <p:nvPr/>
        </p:nvPicPr>
        <p:blipFill>
          <a:blip r:embed="rId1"/>
          <a:stretch/>
        </p:blipFill>
        <p:spPr>
          <a:xfrm>
            <a:off x="2000160" y="1981080"/>
            <a:ext cx="514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dle &amp; Tatum (194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genetic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ied red bread mould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urospora cras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Nobel_Laureates_1958_Beadle_Tatum"/>
          <p:cNvPicPr/>
          <p:nvPr/>
        </p:nvPicPr>
        <p:blipFill>
          <a:blip r:embed="rId1"/>
          <a:stretch/>
        </p:blipFill>
        <p:spPr>
          <a:xfrm>
            <a:off x="4648320" y="2365200"/>
            <a:ext cx="380988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eurospora cras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ch3_mold"/>
          <p:cNvPicPr/>
          <p:nvPr/>
        </p:nvPicPr>
        <p:blipFill>
          <a:blip r:embed="rId1"/>
          <a:stretch/>
        </p:blipFill>
        <p:spPr>
          <a:xfrm>
            <a:off x="2673360" y="1981080"/>
            <a:ext cx="3795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dle &amp; Ta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. crass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able to grow on minimal nutrient medi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n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rain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. cras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rough exposure to X-rays or UV 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nt strains were unable to grow on minimal nutrient me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dle &amp; Ta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ome mutant strains, addi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gin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minimal nutrient medium resulted in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 pathway for synthesis of arginine was determined through experi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nt strain tested with intermedi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22:10:59Z</dcterms:created>
  <dc:creator>rubina khan</dc:creator>
  <dc:description/>
  <dc:language>en-US</dc:language>
  <cp:lastModifiedBy>rubina khan</cp:lastModifiedBy>
  <dcterms:modified xsi:type="dcterms:W3CDTF">2015-11-12T18:20:13Z</dcterms:modified>
  <cp:revision>120</cp:revision>
  <dc:subject/>
  <dc:title>Molecular Genetics</dc:title>
</cp:coreProperties>
</file>